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40F8-5EEF-4CF7-BAA0-2908F0D1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037-578D-4CB9-B70E-8F6B9AB7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A65-D32F-4B05-88F6-1BBED353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48F-D591-4234-99BB-55ED916D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887-851D-4100-8141-7548BC50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020-2704-4D48-A1D0-A691B181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C22-F007-4FBE-B1F8-9F8D8511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F66-3ECB-4B30-92F4-9168C69C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CA7-87E8-4C6A-BDFE-E31E5078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E17-2772-423F-947B-0864C3BB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567B-4D9B-4AED-8583-BF54494D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30D-7659-4173-ABB9-910C5878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DAF9-3497-4414-8960-CC848D3BC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adiation Oncology Research Center (ROR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236196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rvices provi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consu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RC: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62320" y="289548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imes New Roman"/>
              </a:rPr>
              <a:t>aut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imes New Roman"/>
              </a:rPr>
              <a:t>d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imes New Roman"/>
              </a:rPr>
              <a:t>flex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RC &amp; University: benef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bility, permanence &amp; tra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source of talent, motivation, know-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ional &amp; international co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grams &amp; services available under Romanian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cess to various funding opportunities in the category of median / small enterp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cess to informations networks, opportunities for internal &amp; external 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pport for export of ideas, activities and original devices /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RC: organizational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8600" y="1828800"/>
          <a:ext cx="8686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686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NA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2590560"/>
            <a:ext cx="3962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paration / iso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utation detection &amp; quantific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ata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NA contamination in mRNA te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0880" y="1905120"/>
          <a:ext cx="3810240" cy="28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381024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04920" y="4952880"/>
          <a:ext cx="129528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952880"/>
                    <a:ext cx="12952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752480" y="4952880"/>
          <a:ext cx="118116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952880"/>
                    <a:ext cx="1181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048120" y="4952880"/>
          <a:ext cx="1218960" cy="13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4952880"/>
                    <a:ext cx="12189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NA sequent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1828800"/>
          <a:ext cx="3200400" cy="25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320040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66720" y="2209320"/>
            <a:ext cx="4496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tomatic processing &amp; data collection &amp; ana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arative sequenc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agment characte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antitative analysis &amp; data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4419720"/>
          <a:ext cx="3200400" cy="21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419720"/>
                    <a:ext cx="3200400" cy="21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981080"/>
          <a:ext cx="21463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21463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2742840"/>
            <a:ext cx="4495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ytogenetics - gener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fic tests: HER-2/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ryoty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arative genom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819520" y="1981080"/>
          <a:ext cx="144756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981080"/>
                    <a:ext cx="14475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819520" y="3505320"/>
          <a:ext cx="1447560" cy="115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3505320"/>
                    <a:ext cx="144756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838080" y="5029200"/>
          <a:ext cx="1447920" cy="115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029200"/>
                    <a:ext cx="14479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819520" y="5029200"/>
          <a:ext cx="1447560" cy="115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5029200"/>
                    <a:ext cx="14475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ORC: Strategies und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diation physics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D - C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stereotaxic 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HDS interstitial &amp; endocav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rachi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diation biology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tumor oxyge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repair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combination of Rx &amp;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nical RT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lational research focused on the improvement of radio-chemo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07:51:04Z</dcterms:created>
  <dc:creator>Biol-mol</dc:creator>
  <dc:description/>
  <dc:language>en-US</dc:language>
  <cp:lastModifiedBy>HD53 MEN</cp:lastModifiedBy>
  <cp:lastPrinted>2001-10-04T09:11:43Z</cp:lastPrinted>
  <dcterms:modified xsi:type="dcterms:W3CDTF">2001-11-07T12:30:08Z</dcterms:modified>
  <cp:revision>28</cp:revision>
  <dc:subject/>
  <dc:title>SISTEM DE ANALIZĂ A ACIZILOR NUCLEICI</dc:title>
</cp:coreProperties>
</file>