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CFD-C730-4D2B-9EEC-ECF18C64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D75-E332-4A07-8C5E-D38C6D0A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39B-918E-4EC9-893F-10CE4EDB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15A-A99B-49FA-A27D-16945EDF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DCB-5827-4727-ACD4-6D7121B0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67F-3D20-4F68-8017-E70C22C0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E79-AB73-4005-957F-AF0BB3E3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8DB-CF66-443D-B55D-29207974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15A-4098-4648-A917-44217A46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D45-8AD2-4E61-A3D0-D92B9F42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FB2-0E4E-4656-8776-B0D7904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686-33CB-456A-A79D-22B98D7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6286-DACA-4DED-BADE-4F05882B2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adiation Oncology Research Center (ROR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236196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rvices provi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RC: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62320" y="289548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aut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RC &amp; University: benef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bility, permanence &amp; tra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source of talent, motivation, know-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ional &amp; international co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grams &amp; services available under Romanian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ess to various funding opportunities in the category of median / small ente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ess to informations networks, opportunities for internal &amp; external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pport for export of ideas, activities and original devices /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RC: organizational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1828800"/>
          <a:ext cx="8686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NA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2590560"/>
            <a:ext cx="3962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paration / iso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utation detection &amp; quantifi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ata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NA contamination in mRNA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905120"/>
          <a:ext cx="3810240" cy="28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381024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04920" y="4952880"/>
          <a:ext cx="129528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952880"/>
                    <a:ext cx="12952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752480" y="4952880"/>
          <a:ext cx="118116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952880"/>
                    <a:ext cx="1181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048120" y="4952880"/>
          <a:ext cx="1218960" cy="13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952880"/>
                    <a:ext cx="1218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NA sequ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828800"/>
          <a:ext cx="3200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3200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66720" y="220932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matic processing &amp; data collection &amp;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rative sequenc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agment characte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ntitative analysis &amp; data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4419720"/>
          <a:ext cx="3200400" cy="21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419720"/>
                    <a:ext cx="320040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981080"/>
          <a:ext cx="21463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21463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2742840"/>
            <a:ext cx="4495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togenetics - gene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ic tests: HER-2/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yoty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rative genom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819520" y="1981080"/>
          <a:ext cx="14475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981080"/>
                    <a:ext cx="14475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819520" y="3505320"/>
          <a:ext cx="1447560" cy="11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505320"/>
                    <a:ext cx="14475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38080" y="5029200"/>
          <a:ext cx="1447920" cy="115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029200"/>
                    <a:ext cx="14479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819520" y="5029200"/>
          <a:ext cx="1447560" cy="115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5029200"/>
                    <a:ext cx="14475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ORC: Strategies und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diation physics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D - C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stereotaxic 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DS interstitial &amp; endocav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achi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diation biology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tumor oxyge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repair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ombination of Rx &amp;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RT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lational research focused on the improvement of radio-chem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7:51:04Z</dcterms:created>
  <dc:creator>Biol-mol</dc:creator>
  <dc:description/>
  <dc:language>en-US</dc:language>
  <cp:lastModifiedBy>HD53 MEN</cp:lastModifiedBy>
  <cp:lastPrinted>2001-10-04T09:11:43Z</cp:lastPrinted>
  <dcterms:modified xsi:type="dcterms:W3CDTF">2001-11-07T12:30:08Z</dcterms:modified>
  <cp:revision>28</cp:revision>
  <dc:subject/>
  <dc:title>SISTEM DE ANALIZĂ A ACIZILOR NUCLEICI</dc:title>
</cp:coreProperties>
</file>