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43249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F20-6274-4168-800B-00B4CAF0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2604852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E80-F8BB-493E-9883-CD8D8EEC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0528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962-88C1-483E-803D-8BDB3754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43820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71568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43820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71568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0A0-8970-45B5-9C00-347807E1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888-B853-41F4-B804-7B5BA7BC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AD8-C670-453C-B908-F1B98D5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0B4-884B-4B25-8DB0-1172C7F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CD6-1ED3-4734-B7AB-D021FEB3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3843000"/>
            <a:ext cx="24482160" cy="33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99F-E5E9-4A62-A188-49EE50F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067-624F-49CF-ABBA-CDCE448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0528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C7F-5934-471E-91D1-E43727A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F28-62C3-4C99-A8A9-BDF1A77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marL="1389240" indent="-13892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960" indent="-11574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3068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83240" indent="-9270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720" y="39408120"/>
            <a:ext cx="60004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39408120"/>
            <a:ext cx="91216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 algn="ctr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39408120"/>
            <a:ext cx="60004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 algn="r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5120"/>
                <a:tab algn="l" pos="7410600"/>
              </a:tabLst>
            </a:pPr>
            <a:fld id="{56AA705D-A580-4D0C-A152-8DD4C35A0EEB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35040" y="-685800"/>
            <a:ext cx="29438640" cy="43365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68280" y="5962680"/>
            <a:ext cx="135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ABEŞ-BOLYAI UNIVERSITY CLUJ-NAPO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7505640"/>
            <a:ext cx="1943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OW TEMPERATURE LABORATORY FOR  CHARACTERIZATION OF TECHNICAL INTEREST MATERI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20286720"/>
            <a:ext cx="23479200" cy="8916840"/>
          </a:xfrm>
          <a:custGeom>
            <a:avLst/>
            <a:gdLst/>
            <a:ahLst/>
            <a:rect l="l" t="t" r="r" b="b"/>
            <a:pathLst>
              <a:path w="14790" h="5617">
                <a:moveTo>
                  <a:pt x="48" y="444"/>
                </a:moveTo>
                <a:cubicBezTo>
                  <a:pt x="0" y="888"/>
                  <a:pt x="72" y="4799"/>
                  <a:pt x="336" y="5208"/>
                </a:cubicBezTo>
                <a:cubicBezTo>
                  <a:pt x="600" y="5617"/>
                  <a:pt x="3168" y="4632"/>
                  <a:pt x="5256" y="3696"/>
                </a:cubicBezTo>
                <a:cubicBezTo>
                  <a:pt x="7344" y="2760"/>
                  <a:pt x="14790" y="964"/>
                  <a:pt x="13911" y="674"/>
                </a:cubicBezTo>
                <a:cubicBezTo>
                  <a:pt x="13032" y="384"/>
                  <a:pt x="96" y="0"/>
                  <a:pt x="48" y="444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06040" y="12228480"/>
            <a:ext cx="9563040" cy="78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Objecti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ations and physical properties studies of scientific and technical interest 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tall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nduct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permanent mag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meability all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structur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g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fil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vsk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250000" y="9861480"/>
            <a:ext cx="7506000" cy="12073680"/>
            <a:chOff x="20250000" y="9861480"/>
            <a:chExt cx="7506000" cy="12073680"/>
          </a:xfrm>
        </p:grpSpPr>
        <p:sp>
          <p:nvSpPr>
            <p:cNvPr id="47" name=""/>
            <p:cNvSpPr/>
            <p:nvPr/>
          </p:nvSpPr>
          <p:spPr>
            <a:xfrm>
              <a:off x="20250000" y="18916560"/>
              <a:ext cx="7506000" cy="3018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5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-ray difraction equipment,( 77 K - 1800 K)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crystalline structur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textur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internal stress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particles 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d8advance" descr=""/>
            <p:cNvPicPr/>
            <p:nvPr/>
          </p:nvPicPr>
          <p:blipFill>
            <a:blip r:embed="rId2"/>
            <a:stretch/>
          </p:blipFill>
          <p:spPr>
            <a:xfrm>
              <a:off x="20821680" y="9861480"/>
              <a:ext cx="6516720" cy="90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200240" y="16975080"/>
            <a:ext cx="9144000" cy="42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T superconducting coils equipments ( 2K - 400 K) f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dc and ac magnetic measure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(10 Hz - 10 kHz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gnetorezistiv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cific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T magnetic susceptibility equipment, (77 K - 1300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glab7m(1)" descr=""/>
          <p:cNvPicPr/>
          <p:nvPr/>
        </p:nvPicPr>
        <p:blipFill>
          <a:blip r:embed="rId3"/>
          <a:stretch/>
        </p:blipFill>
        <p:spPr>
          <a:xfrm>
            <a:off x="1314360" y="9416880"/>
            <a:ext cx="4913280" cy="740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1280" y="23563440"/>
            <a:ext cx="19164240" cy="6224400"/>
          </a:xfrm>
          <a:custGeom>
            <a:avLst/>
            <a:gdLst/>
            <a:ahLst/>
            <a:rect l="l" t="t" r="r" b="b"/>
            <a:pathLst>
              <a:path w="12072" h="3921">
                <a:moveTo>
                  <a:pt x="10680" y="240"/>
                </a:moveTo>
                <a:cubicBezTo>
                  <a:pt x="9600" y="0"/>
                  <a:pt x="5968" y="985"/>
                  <a:pt x="4104" y="1656"/>
                </a:cubicBezTo>
                <a:cubicBezTo>
                  <a:pt x="2784" y="2297"/>
                  <a:pt x="0" y="3279"/>
                  <a:pt x="624" y="3600"/>
                </a:cubicBezTo>
                <a:cubicBezTo>
                  <a:pt x="1248" y="3921"/>
                  <a:pt x="8280" y="3672"/>
                  <a:pt x="10176" y="3744"/>
                </a:cubicBezTo>
                <a:cubicBezTo>
                  <a:pt x="12072" y="3816"/>
                  <a:pt x="11760" y="480"/>
                  <a:pt x="10680" y="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0" y="26038080"/>
            <a:ext cx="147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4720" y="36420480"/>
            <a:ext cx="8331120" cy="1068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s for samples preparations and thermal tre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bolitetube" descr=""/>
          <p:cNvPicPr/>
          <p:nvPr/>
        </p:nvPicPr>
        <p:blipFill>
          <a:blip r:embed="rId4"/>
          <a:stretch/>
        </p:blipFill>
        <p:spPr>
          <a:xfrm>
            <a:off x="1035000" y="29372040"/>
            <a:ext cx="6002280" cy="653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412000" y="36880920"/>
            <a:ext cx="7421760" cy="1068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gamma resonance equipment, (4.2 K - 1100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nch-MB500" descr=""/>
          <p:cNvPicPr/>
          <p:nvPr/>
        </p:nvPicPr>
        <p:blipFill>
          <a:blip r:embed="rId5"/>
          <a:stretch/>
        </p:blipFill>
        <p:spPr>
          <a:xfrm>
            <a:off x="20448720" y="31359600"/>
            <a:ext cx="7111800" cy="48988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0791440" y="26684280"/>
            <a:ext cx="5845320" cy="6062760"/>
            <a:chOff x="20791440" y="26684280"/>
            <a:chExt cx="5845320" cy="6062760"/>
          </a:xfrm>
        </p:grpSpPr>
        <p:pic>
          <p:nvPicPr>
            <p:cNvPr id="58" name="low_cost_cryo" descr=""/>
            <p:cNvPicPr/>
            <p:nvPr/>
          </p:nvPicPr>
          <p:blipFill>
            <a:blip r:embed="rId6"/>
            <a:stretch/>
          </p:blipFill>
          <p:spPr>
            <a:xfrm>
              <a:off x="23124960" y="26684280"/>
              <a:ext cx="3511800" cy="606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Oven" descr=""/>
            <p:cNvPicPr/>
            <p:nvPr/>
          </p:nvPicPr>
          <p:blipFill>
            <a:blip r:embed="rId7"/>
            <a:stretch/>
          </p:blipFill>
          <p:spPr>
            <a:xfrm>
              <a:off x="20791440" y="29360880"/>
              <a:ext cx="3184560" cy="30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17800" y="38064960"/>
            <a:ext cx="23218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adr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Burzo, V. Pop, R. Tet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of Physics, Babeş Bolyai University, 3400 Cluj-Napoca, Rom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:064 194315; Fax: 064 191906; e-mail: burzo@phys.ubbcluj.ro; viorel @phys.ubbcluj.ro; rote @phys.ubbcluj.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432080" y="5446800"/>
            <a:ext cx="2716200" cy="203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9560" y="6000840"/>
            <a:ext cx="75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ACULTY OF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69400" y="28484640"/>
            <a:ext cx="100584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llaboration partners</a:t>
            </a:r>
            <a:br>
              <a:rPr sz="3200"/>
            </a:br>
            <a:br>
              <a:rPr sz="1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earch, teaching and industrial un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PE-CA, INFIM, IFA, INCDTIM, SINTEROM,  Iaşi, Bucharest, Timişoara Universities; Bucharest, Cluj-Napoca, Timişoara Technical Univers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Fourier Grenoble, L. Pasteur Strasbourg, Paris-Orsay, Rouen,  Zurich, Zaragoza, Osnanbrueck, Chemnitz, Amsterdam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21818520"/>
            <a:ext cx="16649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Laboratory is involved in folowing research and teaching programm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ter and Ph.D programmes in material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programmes (CERES, MATNANTECH, RELAN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ity Research National Council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s-Bolyai University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25:08Z</dcterms:created>
  <dc:creator>UBB</dc:creator>
  <dc:description/>
  <dc:language>en-US</dc:language>
  <cp:lastModifiedBy>HD53 MEN</cp:lastModifiedBy>
  <cp:lastPrinted>2001-10-24T08:35:53Z</cp:lastPrinted>
  <dcterms:modified xsi:type="dcterms:W3CDTF">2001-10-24T15:19:46Z</dcterms:modified>
  <cp:revision>53</cp:revision>
  <dc:subject/>
  <dc:title>No Slide Title</dc:title>
</cp:coreProperties>
</file>