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509C-54D9-43F9-AA8E-67D07B01CE25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B9B1-BC34-47BB-BA47-2C123EB01ADF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EF4A-4A2D-4F8C-9D41-47396458F24A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39DA-A4FF-4440-9D10-E78D9426BF44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CF0-2C39-4DA0-AA95-934BF722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E9A-D817-48B8-BD6B-6103F044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19D-C259-4CA5-9C77-EA00F604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BE5-A399-4D6A-BDFC-AF946523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451-14B4-4FC7-9AC7-4ECBD196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023-3997-4F3C-BFCE-D536018A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359-D53B-440B-8B62-F0F30ECB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EDB-6508-47E3-9298-8F554852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7C4-70BE-4003-8AEF-A13AB0BD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E99-FE59-4267-9F66-0344DC2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047-063E-4052-931F-E218982F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F90-7F93-4079-9DAB-3076C8BE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C488-73D3-4F16-A8B1-CA3D073CD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mailto:victor.velter@uefiscsu.ro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1%20start.ppsx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1%20start.pps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hyperlink" Target="file:///tabel%201.xls" TargetMode="External"/><Relationship Id="rId5" Type="http://schemas.openxmlformats.org/officeDocument/2006/relationships/hyperlink" Target="file:///tabel%201.xls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hyperlink" Target="file:///tabel%202.xls" TargetMode="External"/><Relationship Id="rId5" Type="http://schemas.openxmlformats.org/officeDocument/2006/relationships/hyperlink" Target="file:///tabel%202.xls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hyperlink" Target="file:///tabel%203.xls" TargetMode="External"/><Relationship Id="rId5" Type="http://schemas.openxmlformats.org/officeDocument/2006/relationships/hyperlink" Target="file:///tabel%203.xls" TargetMode="External"/><Relationship Id="rId6" Type="http://schemas.openxmlformats.org/officeDocument/2006/relationships/hyperlink" Target="file:///tabel%203.xls" TargetMode="External"/><Relationship Id="rId7" Type="http://schemas.openxmlformats.org/officeDocument/2006/relationships/hyperlink" Target="file:///tabel%204.xls" TargetMode="External"/><Relationship Id="rId8" Type="http://schemas.openxmlformats.org/officeDocument/2006/relationships/hyperlink" Target="file:///tabel%204.xls" TargetMode="External"/><Relationship Id="rId9" Type="http://schemas.openxmlformats.org/officeDocument/2006/relationships/hyperlink" Target="file:///tabel%205.xls" TargetMode="External"/><Relationship Id="rId10" Type="http://schemas.openxmlformats.org/officeDocument/2006/relationships/hyperlink" Target="file:///tabel%205.xls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%20start.ppsx" TargetMode="External"/><Relationship Id="rId3" Type="http://schemas.openxmlformats.org/officeDocument/2006/relationships/hyperlink" Target="file:///1%20start.pps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533520" y="20574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Analiza publicaţiilor ISI 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rilor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din România 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iliere IOSUD, pe domeniile comisiilor doct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666880" y="495288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AIA, 3-4 APRILI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248520" y="33526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ctor VE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Bogdan\Proiecte strategice pentru invatamantul superior\Sabloane PowerPoint\3 int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>
            <a:hlinkClick r:id="rId2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tăText 2"/>
          <p:cNvSpPr/>
          <p:nvPr/>
        </p:nvSpPr>
        <p:spPr>
          <a:xfrm>
            <a:off x="2666880" y="27432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ul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tăText 2"/>
          <p:cNvSpPr/>
          <p:nvPr/>
        </p:nvSpPr>
        <p:spPr>
          <a:xfrm>
            <a:off x="2819520" y="4495680"/>
            <a:ext cx="3733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ctor VELTER-Sef birou “politica stiintei si scientometrie”-UEFISC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victor.velter@uefiscsu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722.860.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Bogdan\Proiecte strategice pentru invatamantul superior\Sabloane PowerPoint\3 int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>
            <a:hlinkClick r:id="rId2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33520" y="115740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se de inform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a Web of Knowledge-Thomson Reuters (acces prin intermediul unui proiect IN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of Science (Science Citation Index Expanded (SCIE), Social Sciences Citation Index (SCI) şi Arts / Humanities Citation Index (AHCI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ence Proceedings Citation Index – Science (CPCIS) şi Conference Proceedings Citation Index - Social Science &amp; Humanities (CPCISSH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urnal Citation Reports -Science Edition, Social Sciences Edition 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tia numarului de persoane care au obtinut titlul de doctor in stiinta,in perioada 2007-2009, pe domenii si pe universitati (ME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533520" y="2057400"/>
            <a:ext cx="83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XTUL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arul publicatiilor ISI in revis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arul publicatiilor ISI in volume de confer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arul de reviste cu factor d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Bogdan\Proiecte strategice pentru invatamantul superior\Sabloane PowerPoint\3 int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>
            <a:hlinkClick r:id="rId2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762120"/>
          <a:ext cx="7848720" cy="5492520"/>
        </p:xfrm>
        <a:graphic>
          <a:graphicData uri="http://schemas.openxmlformats.org/drawingml/2006/table">
            <a:tbl>
              <a:tblPr/>
              <a:tblGrid>
                <a:gridCol w="1447920"/>
                <a:gridCol w="2209680"/>
                <a:gridCol w="1828800"/>
                <a:gridCol w="1447920"/>
                <a:gridCol w="914400"/>
              </a:tblGrid>
              <a:tr h="655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mar publicatii I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mar reviste cu factor de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v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feri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S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ULG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L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.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NG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7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ER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&gt; 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.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R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2.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.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T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0.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.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NG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&gt; 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.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P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8.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.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.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&gt; 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2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&gt; 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&gt; 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4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533520" y="205740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Analiza publicaţiilor ISI 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rilor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din Români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pa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ilierea institutio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erioada analizata 2005-2008 (categ A, CNC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rimele 500 de afilieri institutionale -limitare 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ai multe denumiri folosite pentru aceeasi institu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IOSUD (57 de institutii)- 38 (67%) au publicatii 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tabel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ierarhie 05_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33520" y="2057400"/>
            <a:ext cx="8305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Analiza publicaţiilor ISI 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rilor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din Români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 domeniile comisiilor doct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subdomenii ISI (300),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tabel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domenii de doctorat (59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comisii doctorale (35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33520" y="20574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Analiza publicaţiilor ISI 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rilor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din Români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 domeniile comisiilor doct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Numarul publicatiilor ISI in reviste, 2005-2008, pe domeniile comisiilor doctorale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tabel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isii doctorale/arti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situatie doctori pe domenii doctorale, 2007-2009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tabel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nderi  domenii docto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analiza doctori/publicatii ISI per comisii doctorale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tabel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>
            <a:hlinkClick r:id="rId2"/>
          </p:cNvPr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3"/>
          </p:cNvPr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533520" y="762120"/>
            <a:ext cx="83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teza statis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rimele 500 de institutii afiliatoare publicatiilor ISI din reviste acopera 87.36% din numarul total de publicatii ISI ale autorilor din Rom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IOSUD-urile asigura 76.37% din publicatiile ISI din reviste, din primele 500 de institut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1,35 IOSUD per articol (1 IOSUD per articol in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1 articol ISI alocat la 1,7 comisii doct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Bogdan\Proiecte strategice pentru invatamantul superior\PowerPoint\ROMANA\3 capac scoli doctorale.jpg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7238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23888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33520" y="7621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atii ISI diferentiate pe subdomeniile 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ificare reviste dupa factorul d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 fiecare subdomeniu ISI, www.cncsis.ro/cenaposs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La nivelul fiecarei comisii doctorale, pe fiecare domeniu se pot face sugestii cu privire la zonele in care doctoranzii sa-si publice artico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cncsis.ro/cenaposs/clasif_isi/index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cncsis.ro/cenaposs/clasif_isi/index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1:51:13Z</dcterms:created>
  <dc:creator>victor velter</dc:creator>
  <dc:description/>
  <dc:language>en-US</dc:language>
  <cp:lastModifiedBy>DELL</cp:lastModifiedBy>
  <dcterms:modified xsi:type="dcterms:W3CDTF">2009-04-12T07:22:46Z</dcterms:modified>
  <cp:revision>83</cp:revision>
  <dc:subject/>
  <dc:title>Slide 1</dc:title>
</cp:coreProperties>
</file>