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BFBA-8339-4C49-9538-88AD3D5F7221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15F2-13B7-4ECE-BFD1-C780FCF05E58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A711-2626-4356-AE52-7E03D5084574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96C8-30CA-49AD-B8DD-9678CF8A7F77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EF3-B3DE-427B-996C-ABAFB6DC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F0F-F674-4718-BB42-935D843D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DC6-C9F0-4DEC-868E-6019D95D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470-3FA6-420E-93D3-93F84E76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622-524A-4B9F-96E0-12DF86C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182-39D6-4F25-B61C-7144F6B1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AB1-E679-40C2-BEB0-FADC00C8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098-722D-43FB-88DF-B6F77488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7C4-B7BC-4F4E-86E1-6BA57E98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13F-2FFE-4535-AE2D-A97BDC8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38A-3009-4237-ACAE-56E01CEF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404-E275-47E3-813E-FEE6B0E3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4218-D5D0-4329-8145-5CE663F82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mailto:victor.velter@uefiscsu.ro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1%20start.ppsx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1%20start.pps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hyperlink" Target="file:///tabel%201.xls" TargetMode="External"/><Relationship Id="rId5" Type="http://schemas.openxmlformats.org/officeDocument/2006/relationships/hyperlink" Target="file:///tabel%201.xls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hyperlink" Target="file:///tabel%202.xls" TargetMode="External"/><Relationship Id="rId5" Type="http://schemas.openxmlformats.org/officeDocument/2006/relationships/hyperlink" Target="file:///tabel%202.xls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hyperlink" Target="file:///tabel%203.xls" TargetMode="External"/><Relationship Id="rId5" Type="http://schemas.openxmlformats.org/officeDocument/2006/relationships/hyperlink" Target="file:///tabel%203.xls" TargetMode="External"/><Relationship Id="rId6" Type="http://schemas.openxmlformats.org/officeDocument/2006/relationships/hyperlink" Target="file:///tabel%203.xls" TargetMode="External"/><Relationship Id="rId7" Type="http://schemas.openxmlformats.org/officeDocument/2006/relationships/hyperlink" Target="file:///tabel%204.xls" TargetMode="External"/><Relationship Id="rId8" Type="http://schemas.openxmlformats.org/officeDocument/2006/relationships/hyperlink" Target="file:///tabel%204.xls" TargetMode="External"/><Relationship Id="rId9" Type="http://schemas.openxmlformats.org/officeDocument/2006/relationships/hyperlink" Target="file:///tabel%205.xls" TargetMode="External"/><Relationship Id="rId10" Type="http://schemas.openxmlformats.org/officeDocument/2006/relationships/hyperlink" Target="file:///tabel%205.xls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533520" y="20574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Analiza publicaţiilor ISI 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rilor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din România 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iliere IOSUD, pe domeniile comisiilor doct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666880" y="495288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AIA, 3-4 APRILI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248520" y="33526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ctor VE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Bogdan\Proiecte strategice pentru invatamantul superior\Sabloane PowerPoint\3 int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>
            <a:hlinkClick r:id="rId2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tăText 2"/>
          <p:cNvSpPr/>
          <p:nvPr/>
        </p:nvSpPr>
        <p:spPr>
          <a:xfrm>
            <a:off x="2666880" y="27432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ul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tăText 2"/>
          <p:cNvSpPr/>
          <p:nvPr/>
        </p:nvSpPr>
        <p:spPr>
          <a:xfrm>
            <a:off x="2819520" y="4495680"/>
            <a:ext cx="3733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ctor VELTER-Sef birou “politica stiintei si scientometrie”-UEFISC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victor.velter@uefiscsu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722.860.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Bogdan\Proiecte strategice pentru invatamantul superior\Sabloane PowerPoint\3 int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>
            <a:hlinkClick r:id="rId2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33520" y="115740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se de inform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a Web of Knowledge-Thomson Reuters (acces prin intermediul unui proiect IN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of Science (Science Citation Index Expanded (SCIE), Social Sciences Citation Index (SCI) şi Arts / Humanities Citation Index (AHCI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ence Proceedings Citation Index – Science (CPCIS) şi Conference Proceedings Citation Index - Social Science &amp; Humanities (CPCISSH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urnal Citation Reports -Science Edition, Social Sciences Edition 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tia numarului de persoane care au obtinut titlul de doctor in stiinta,in perioada 2007-2009, pe domenii si pe universitati (ME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533520" y="2057400"/>
            <a:ext cx="83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XTUL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arul publicatiilor ISI in revis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arul publicatiilor ISI in volume de confer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arul de reviste cu factor d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Bogdan\Proiecte strategice pentru invatamantul superior\Sabloane PowerPoint\3 int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>
            <a:hlinkClick r:id="rId2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762120"/>
          <a:ext cx="7848720" cy="5492520"/>
        </p:xfrm>
        <a:graphic>
          <a:graphicData uri="http://schemas.openxmlformats.org/drawingml/2006/table">
            <a:tbl>
              <a:tblPr/>
              <a:tblGrid>
                <a:gridCol w="1447920"/>
                <a:gridCol w="2209680"/>
                <a:gridCol w="1828800"/>
                <a:gridCol w="1447920"/>
                <a:gridCol w="914400"/>
              </a:tblGrid>
              <a:tr h="655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mar publicatii I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mar reviste cu factor de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v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feri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S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ULG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L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.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NG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7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ER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&gt; 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.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R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2.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.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T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0.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.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NG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&gt; 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.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P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8.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.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.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&gt; 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2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&gt; 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&gt; 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4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533520" y="205740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Analiza publicaţiilor ISI 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rilor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din Români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pa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ilierea institutio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erioada analizata 2005-2008 (categ A, CNC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rimele 500 de afilieri institutionale -limitare 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ai multe denumiri folosite pentru aceeasi institu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IOSUD (57 de institutii)- 38 (67%) au publicatii 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tabel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ierarhie 05_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33520" y="2057400"/>
            <a:ext cx="8305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Analiza publicaţiilor ISI 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rilor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din Români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 domeniile comisiilor doct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subdomenii ISI (300),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tabel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domenii de doctorat (59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comisii doctorale (35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33520" y="20574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Analiza publicaţiilor ISI 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rilor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din Români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 domeniile comisiilor doct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Numarul publicatiilor ISI in reviste, 2005-2008, pe domeniile comisiilor doctorale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tabel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isii doctorale/arti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situatie doctori pe domenii doctorale, 2007-2009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tabel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nderi  domenii docto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analiza doctori/publicatii ISI per comisii doctorale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tabel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533520" y="762120"/>
            <a:ext cx="83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teza statis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rimele 500 de institutii afiliatoare publicatiilor ISI din reviste acopera 87.36% din numarul total de publicatii ISI ale autorilor din Rom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IOSUD-urile asigura 76.37% din publicatiile ISI din reviste, din primele 500 de institut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1,35 IOSUD per articol (1 IOSUD per articol in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1 articol ISI alocat la 1,7 comisii doct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33520" y="7621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atii ISI diferentiate pe subdomeniile 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ificare reviste dupa factorul d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 fiecare subdomeniu ISI, www.cncsis.ro/cenaposs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La nivelul fiecarei comisii doctorale, pe fiecare domeniu se pot face sugestii cu privire la zonele in care doctoranzii sa-si publice artico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cncsis.ro/cenaposs/clasif_isi/index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cncsis.ro/cenaposs/clasif_isi/index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1:51:13Z</dcterms:created>
  <dc:creator>victor velter</dc:creator>
  <dc:description/>
  <dc:language>en-US</dc:language>
  <cp:lastModifiedBy>DELL</cp:lastModifiedBy>
  <dcterms:modified xsi:type="dcterms:W3CDTF">2009-04-12T07:22:46Z</dcterms:modified>
  <cp:revision>83</cp:revision>
  <dc:subject/>
  <dc:title>Slide 1</dc:title>
</cp:coreProperties>
</file>