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133-481A-4816-A905-9042953E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7AB-2560-4F80-B546-E5C424A7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768-4A33-4B9D-93A6-27D82FD4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F24-5D7E-4E24-B391-F396AC8B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154-6D94-4087-AB48-CADB9F6E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D14-0146-43E7-9073-B6632949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F35-038A-4999-8AC4-23CA3B88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653-74BE-4559-BDE3-8F80272E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DF9-F644-4C31-B7F4-E0E623D9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5CE-EF24-4678-A04E-3CBCF279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270-2B93-463A-B014-C4461E26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A3F-D4C7-4955-A21E-0F15DEB2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B657-E105-418C-ABD5-64CB54A25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756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447920"/>
          <a:ext cx="9144000" cy="7078680"/>
        </p:xfrm>
        <a:graphic>
          <a:graphicData uri="http://schemas.openxmlformats.org/drawingml/2006/table">
            <a:tbl>
              <a:tblPr/>
              <a:tblGrid>
                <a:gridCol w="798480"/>
                <a:gridCol w="8345520"/>
              </a:tblGrid>
              <a:tr h="872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de a atrage fonduri pentru activitatea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de a preg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 resursa uma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nalt calificat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pentru activitatea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Releva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 vizibilitatea rezultatelor activit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i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8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4. Capacitatea universit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lor de a concepe/dezvolta produse – tehnologii inovative pentru mediul de afaceri                                                                                                                                       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5. Capacitatea institu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onal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a universit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lor de a organiza 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 sus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ne activitatea de cercetare stiintifica performanta                                                                                                                                    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Line 372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" name="Picture 374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181480" y="2971800"/>
            <a:ext cx="437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44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04920" y="1447920"/>
            <a:ext cx="914400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Capacitatea universitatilor de a concepe/dezvolta produse – tehnologii inovative pentru mediul de afacer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(raportul dintre numarul total de brevete care apartin universitatii/produse cu drept de proprietate intelectuala si numarul de cadre didactice si cercetatori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0"/>
              <p:cNvSpPr txBox="1"/>
              <p:nvPr/>
            </p:nvSpPr>
            <p:spPr>
              <a:xfrm>
                <a:off x="3124080" y="3048120"/>
                <a:ext cx="1676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revete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12"/>
              <p:cNvSpPr txBox="1"/>
              <p:nvPr/>
            </p:nvSpPr>
            <p:spPr>
              <a:xfrm>
                <a:off x="457200" y="31240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28600" y="4029120"/>
                <a:ext cx="838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revet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Rectangle 14"/>
          <p:cNvSpPr/>
          <p:nvPr/>
        </p:nvSpPr>
        <p:spPr>
          <a:xfrm>
            <a:off x="30780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914400" y="40384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brevete/produse cu drept de proprietate intelectuala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15"/>
              <p:cNvSpPr txBox="1"/>
              <p:nvPr/>
            </p:nvSpPr>
            <p:spPr>
              <a:xfrm>
                <a:off x="304920" y="43434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8" name="Rectangle 18"/>
          <p:cNvSpPr/>
          <p:nvPr/>
        </p:nvSpPr>
        <p:spPr>
          <a:xfrm>
            <a:off x="990720" y="43434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7"/>
              <p:cNvSpPr txBox="1"/>
              <p:nvPr/>
            </p:nvSpPr>
            <p:spPr>
              <a:xfrm>
                <a:off x="304920" y="46483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Rectangle 21"/>
          <p:cNvSpPr/>
          <p:nvPr/>
        </p:nvSpPr>
        <p:spPr>
          <a:xfrm>
            <a:off x="914400" y="46450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228600" y="5011920"/>
            <a:ext cx="944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Brevete omologate si lucrari cu drept de proprietate intelectuala in orice domeniu artistic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Rectangle 46"/>
          <p:cNvSpPr/>
          <p:nvPr/>
        </p:nvSpPr>
        <p:spPr>
          <a:xfrm>
            <a:off x="0" y="6324480"/>
            <a:ext cx="952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e ataseaza  si documentele doveditoar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412920" y="1219320"/>
            <a:ext cx="924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660240" y="1219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447920"/>
          <a:ext cx="9524880" cy="4435200"/>
        </p:xfrm>
        <a:graphic>
          <a:graphicData uri="http://schemas.openxmlformats.org/drawingml/2006/table">
            <a:tbl>
              <a:tblPr/>
              <a:tblGrid>
                <a:gridCol w="754200"/>
                <a:gridCol w="284040"/>
                <a:gridCol w="4808520"/>
                <a:gridCol w="2171880"/>
                <a:gridCol w="1506240"/>
              </a:tblGrid>
              <a:tr h="2223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institutionala a universitatilor de a organiza si sustine activitatea de cercetare stiintifica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i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de a transfera rezultatele cercetarii in mediul socio-economic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Line 4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Rectangle 50"/>
          <p:cNvSpPr/>
          <p:nvPr/>
        </p:nvSpPr>
        <p:spPr>
          <a:xfrm>
            <a:off x="838080" y="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69" name="Picture 5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152280" y="6324480"/>
            <a:ext cx="944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i: </a:t>
            </a:r>
            <a:r>
              <a:rPr b="0" lang="en-US" sz="1200" spc="-1" strike="noStrike">
                <a:solidFill>
                  <a:srgbClr val="262699"/>
                </a:solidFill>
                <a:latin typeface="Arial"/>
              </a:rPr>
              <a:t>se ataseaza  documente semnate de rector prin hotararea senatului referitor la existenta structurilor functionale pentru sustinerea  activitatii de cercetare si a structurilor functionale pentru sustinerea transferului rezultatelor cercetarii.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37"/>
              <p:cNvSpPr txBox="1"/>
              <p:nvPr/>
            </p:nvSpPr>
            <p:spPr>
              <a:xfrm>
                <a:off x="533520" y="2971800"/>
                <a:ext cx="5638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exista structuri  functionale pentru  sustinerea activitatii de cercetare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nu exista structuri functionale pentru  sustinerea activitatii de cerceta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41"/>
              <p:cNvSpPr txBox="1"/>
              <p:nvPr/>
            </p:nvSpPr>
            <p:spPr>
              <a:xfrm>
                <a:off x="533520" y="36576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exista structuri  functionale pentru  sustinerea transferului rezultatelor cercetarii  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nu exista structuri  functionale pentru  sustinerea transferului rezultatelor cercetari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8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43"/>
              <p:cNvSpPr txBox="1"/>
              <p:nvPr/>
            </p:nvSpPr>
            <p:spPr>
              <a:xfrm>
                <a:off x="3009960" y="2209680"/>
                <a:ext cx="1523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685800" y="2286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6254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28600" y="1447920"/>
            <a:ext cx="9524880" cy="4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Capacitatea de a atrage fonduri pentru activitatea de cercetare stiintific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1.1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Initiativa in atragerea de fonduri de cercetare, la nivel national si  international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(raportul dintre numarul ponderat de proiecte depuse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i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0"/>
              <p:cNvSpPr txBox="1"/>
              <p:nvPr/>
            </p:nvSpPr>
            <p:spPr>
              <a:xfrm>
                <a:off x="3103560" y="2590920"/>
                <a:ext cx="1870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1523880" y="2819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4"/>
              <p:cNvSpPr txBox="1"/>
              <p:nvPr/>
            </p:nvSpPr>
            <p:spPr>
              <a:xfrm>
                <a:off x="5181480" y="2895480"/>
                <a:ext cx="1219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533520" y="2514600"/>
                <a:ext cx="304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152280" y="3505320"/>
                <a:ext cx="3524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" name="Rectangle 14"/>
          <p:cNvSpPr/>
          <p:nvPr/>
        </p:nvSpPr>
        <p:spPr>
          <a:xfrm>
            <a:off x="304920" y="35053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componenta de atragere de fonduri de cercetare la nivel national (competitii nationale)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; i</a:t>
            </a:r>
            <a:r>
              <a:rPr b="0" lang="en-US" sz="1400" spc="-1" strike="noStrike">
                <a:solidFill>
                  <a:srgbClr val="262699"/>
                </a:solidFill>
                <a:latin typeface="Arial"/>
              </a:rPr>
              <a:t>n anul 2009 nu a fost lansata competitie de propuneri de proiecte; acest indicator are valoare 0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5"/>
              <p:cNvSpPr txBox="1"/>
              <p:nvPr/>
            </p:nvSpPr>
            <p:spPr>
              <a:xfrm>
                <a:off x="228600" y="39625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" name="Rectangle 17"/>
          <p:cNvSpPr/>
          <p:nvPr/>
        </p:nvSpPr>
        <p:spPr>
          <a:xfrm>
            <a:off x="304920" y="39625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componenta de atragerea de fonduri de cercetare la nivel international (competitii internationale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152280" y="4267080"/>
                <a:ext cx="53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Rectangle 20"/>
          <p:cNvSpPr/>
          <p:nvPr/>
        </p:nvSpPr>
        <p:spPr>
          <a:xfrm>
            <a:off x="228600" y="42670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depuse in competitii nationa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9"/>
              <p:cNvSpPr txBox="1"/>
              <p:nvPr/>
            </p:nvSpPr>
            <p:spPr>
              <a:xfrm>
                <a:off x="152280" y="4572000"/>
                <a:ext cx="53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Rectangle 23"/>
          <p:cNvSpPr/>
          <p:nvPr/>
        </p:nvSpPr>
        <p:spPr>
          <a:xfrm>
            <a:off x="380880" y="4572000"/>
            <a:ext cx="678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depuse in competitii internationale,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1"/>
              <p:cNvSpPr txBox="1"/>
              <p:nvPr/>
            </p:nvSpPr>
            <p:spPr>
              <a:xfrm>
                <a:off x="228600" y="48769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Rectangle 26"/>
          <p:cNvSpPr/>
          <p:nvPr/>
        </p:nvSpPr>
        <p:spPr>
          <a:xfrm>
            <a:off x="457200" y="487692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3"/>
              <p:cNvSpPr txBox="1"/>
              <p:nvPr/>
            </p:nvSpPr>
            <p:spPr>
              <a:xfrm>
                <a:off x="237960" y="5257800"/>
                <a:ext cx="295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Rectangle 29"/>
          <p:cNvSpPr/>
          <p:nvPr/>
        </p:nvSpPr>
        <p:spPr>
          <a:xfrm>
            <a:off x="380880" y="518148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5"/>
              <p:cNvSpPr txBox="1"/>
              <p:nvPr/>
            </p:nvSpPr>
            <p:spPr>
              <a:xfrm>
                <a:off x="276120" y="5486400"/>
                <a:ext cx="257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05320" y="5486400"/>
                <a:ext cx="6858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Rectangle 38"/>
          <p:cNvSpPr/>
          <p:nvPr/>
        </p:nvSpPr>
        <p:spPr>
          <a:xfrm>
            <a:off x="614880" y="5486400"/>
            <a:ext cx="30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,</a:t>
            </a:r>
            <a:r>
              <a:rPr b="0" lang="ro-RO" sz="1400" spc="-1" strike="noStrike">
                <a:solidFill>
                  <a:srgbClr val="000099"/>
                </a:solidFill>
                <a:latin typeface="Times New Roman"/>
                <a:ea typeface="MS Mincho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3"/>
              <p:cNvSpPr txBox="1"/>
              <p:nvPr/>
            </p:nvSpPr>
            <p:spPr>
              <a:xfrm>
                <a:off x="266760" y="57913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Rectangle 41"/>
          <p:cNvSpPr/>
          <p:nvPr/>
        </p:nvSpPr>
        <p:spPr>
          <a:xfrm>
            <a:off x="619920" y="5791320"/>
            <a:ext cx="33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internationale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5"/>
              <p:cNvSpPr txBox="1"/>
              <p:nvPr/>
            </p:nvSpPr>
            <p:spPr>
              <a:xfrm>
                <a:off x="3886200" y="5791320"/>
                <a:ext cx="6858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Rectangle 42"/>
          <p:cNvSpPr/>
          <p:nvPr/>
        </p:nvSpPr>
        <p:spPr>
          <a:xfrm>
            <a:off x="307800" y="32004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Rectangle 43"/>
          <p:cNvSpPr/>
          <p:nvPr/>
        </p:nvSpPr>
        <p:spPr>
          <a:xfrm>
            <a:off x="152280" y="6211800"/>
            <a:ext cx="960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depunerea de proiecte este o conditie esentiala pentru obtinerea de fonduri si arata preocuparea institutiei in acest sen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. La nivel national se raporteaza numai proiectele pentru care universitatea este coordonator, iar la nivel international se raporteaza proiectele in care universitatea este atat coordonator cat si partener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80880" y="1143000"/>
          <a:ext cx="9220320" cy="4498920"/>
        </p:xfrm>
        <a:graphic>
          <a:graphicData uri="http://schemas.openxmlformats.org/drawingml/2006/table">
            <a:tbl>
              <a:tblPr/>
              <a:tblGrid>
                <a:gridCol w="639720"/>
                <a:gridCol w="365400"/>
                <a:gridCol w="4655880"/>
                <a:gridCol w="2098800"/>
                <a:gridCol w="1460520"/>
              </a:tblGrid>
              <a:tr h="51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1.2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Proiecte castigate in competitii nationale si internationale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unde: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76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= punctaj obtinut pentru numarul de proiecte castigate in competitii nationale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In anul 2009 nu a fost lansata competitie de propuneri de proiecte; acest indicator are valoare 0.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" name="Line 212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Rectangle 213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Picture 213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0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4"/>
              <p:cNvSpPr txBox="1"/>
              <p:nvPr/>
            </p:nvSpPr>
            <p:spPr>
              <a:xfrm>
                <a:off x="390600" y="1828800"/>
                <a:ext cx="447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6"/>
              <p:cNvSpPr txBox="1"/>
              <p:nvPr/>
            </p:nvSpPr>
            <p:spPr>
              <a:xfrm>
                <a:off x="2743200" y="1828800"/>
                <a:ext cx="1676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48"/>
              <p:cNvSpPr txBox="1"/>
              <p:nvPr/>
            </p:nvSpPr>
            <p:spPr>
              <a:xfrm>
                <a:off x="1447920" y="2143080"/>
                <a:ext cx="1209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9"/>
              <p:cNvSpPr txBox="1"/>
              <p:nvPr/>
            </p:nvSpPr>
            <p:spPr>
              <a:xfrm>
                <a:off x="4267080" y="2143080"/>
                <a:ext cx="11336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51"/>
              <p:cNvSpPr txBox="1"/>
              <p:nvPr/>
            </p:nvSpPr>
            <p:spPr>
              <a:xfrm>
                <a:off x="457200" y="2895480"/>
                <a:ext cx="276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0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3"/>
              <p:cNvSpPr txBox="1"/>
              <p:nvPr/>
            </p:nvSpPr>
            <p:spPr>
              <a:xfrm>
                <a:off x="457200" y="3276720"/>
                <a:ext cx="371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2" name="Rectangle 23"/>
          <p:cNvSpPr/>
          <p:nvPr/>
        </p:nvSpPr>
        <p:spPr>
          <a:xfrm>
            <a:off x="762120" y="33526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punctaj obtinut pentru numarul de proiecte castigate in competitii international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58"/>
              <p:cNvSpPr txBox="1"/>
              <p:nvPr/>
            </p:nvSpPr>
            <p:spPr>
              <a:xfrm>
                <a:off x="304920" y="3657600"/>
                <a:ext cx="485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Rectangle 26"/>
          <p:cNvSpPr/>
          <p:nvPr/>
        </p:nvSpPr>
        <p:spPr>
          <a:xfrm>
            <a:off x="914400" y="358128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castigate in competitii nationale in calitate de coordonator,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262699"/>
                </a:solidFill>
                <a:latin typeface="Arial"/>
              </a:rPr>
              <a:t>In anul 2009 nu a fost lansata competitie de propuneri de proiecte; acest indicator are valoare 0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0"/>
              <p:cNvSpPr txBox="1"/>
              <p:nvPr/>
            </p:nvSpPr>
            <p:spPr>
              <a:xfrm>
                <a:off x="304920" y="411480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Rectangle 29"/>
          <p:cNvSpPr/>
          <p:nvPr/>
        </p:nvSpPr>
        <p:spPr>
          <a:xfrm>
            <a:off x="838080" y="403848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castigate in competitii internationale in calitate de partener si coordonator,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2"/>
              <p:cNvSpPr txBox="1"/>
              <p:nvPr/>
            </p:nvSpPr>
            <p:spPr>
              <a:xfrm>
                <a:off x="380880" y="4419720"/>
                <a:ext cx="381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" name="Rectangle 32"/>
          <p:cNvSpPr/>
          <p:nvPr/>
        </p:nvSpPr>
        <p:spPr>
          <a:xfrm>
            <a:off x="685800" y="44956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4"/>
              <p:cNvSpPr txBox="1"/>
              <p:nvPr/>
            </p:nvSpPr>
            <p:spPr>
              <a:xfrm>
                <a:off x="380880" y="4724280"/>
                <a:ext cx="2955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35"/>
          <p:cNvSpPr/>
          <p:nvPr/>
        </p:nvSpPr>
        <p:spPr>
          <a:xfrm>
            <a:off x="762120" y="4724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6"/>
              <p:cNvSpPr txBox="1"/>
              <p:nvPr/>
            </p:nvSpPr>
            <p:spPr>
              <a:xfrm>
                <a:off x="380880" y="49528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8"/>
              <p:cNvSpPr txBox="1"/>
              <p:nvPr/>
            </p:nvSpPr>
            <p:spPr>
              <a:xfrm>
                <a:off x="380880" y="5257800"/>
                <a:ext cx="266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Rectangle 40"/>
          <p:cNvSpPr/>
          <p:nvPr/>
        </p:nvSpPr>
        <p:spPr>
          <a:xfrm>
            <a:off x="842760" y="5029200"/>
            <a:ext cx="30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0"/>
              <p:cNvSpPr txBox="1"/>
              <p:nvPr/>
            </p:nvSpPr>
            <p:spPr>
              <a:xfrm>
                <a:off x="3733920" y="5029200"/>
                <a:ext cx="6699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43"/>
          <p:cNvSpPr/>
          <p:nvPr/>
        </p:nvSpPr>
        <p:spPr>
          <a:xfrm>
            <a:off x="843480" y="5257800"/>
            <a:ext cx="33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internationale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72"/>
              <p:cNvSpPr txBox="1"/>
              <p:nvPr/>
            </p:nvSpPr>
            <p:spPr>
              <a:xfrm>
                <a:off x="4114800" y="5257800"/>
                <a:ext cx="503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46"/>
          <p:cNvSpPr/>
          <p:nvPr/>
        </p:nvSpPr>
        <p:spPr>
          <a:xfrm>
            <a:off x="152280" y="6477120"/>
            <a:ext cx="9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ponderea acestui subindicator poate sa creasca in detrimentul celui anterior pe masura ce initiativa va fi mai crescuta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Rectangle 74"/>
          <p:cNvSpPr/>
          <p:nvPr/>
        </p:nvSpPr>
        <p:spPr>
          <a:xfrm>
            <a:off x="152280" y="5488920"/>
            <a:ext cx="952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roiecte de cercetare stiintifica si creatie artistica castigate prin competitie nationala si international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304920" y="1447920"/>
            <a:ext cx="8229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(raportul dintre numarul ponderat de proiecte </a:t>
            </a:r>
            <a:r>
              <a:rPr b="0" lang="ro-RO" sz="1400" spc="-1" strike="noStrike">
                <a:solidFill>
                  <a:srgbClr val="262699"/>
                </a:solidFill>
                <a:latin typeface="Arial"/>
                <a:ea typeface="Arial"/>
              </a:rPr>
              <a:t>castigate</a:t>
            </a:r>
            <a:r>
              <a:rPr b="1" lang="ro-RO" sz="14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80880" y="1143000"/>
          <a:ext cx="9220320" cy="6022800"/>
        </p:xfrm>
        <a:graphic>
          <a:graphicData uri="http://schemas.openxmlformats.org/drawingml/2006/table">
            <a:tbl>
              <a:tblPr/>
              <a:tblGrid>
                <a:gridCol w="639720"/>
                <a:gridCol w="365400"/>
                <a:gridCol w="4655880"/>
                <a:gridCol w="2098800"/>
                <a:gridCol w="1460520"/>
              </a:tblGrid>
              <a:tr h="1612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1.3 Fonduri atrase din competitii nationale si internationale, prin proiecte/contracte de cercetare, consultanta/servicii tehnice si tehnologice (nationale sau internationale, inclusiv incheiate direct cu companii din tara si strainatate)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(raportul dintre valoarea proiectelor si contractelor de cercetare, consultanta sau servicii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exprimata in aceeasi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unitate monetara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si numarul de cadre didactice si cercetatori)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0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Line 212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Rectangle 213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1" name="Picture 213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0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53"/>
              <p:cNvSpPr txBox="1"/>
              <p:nvPr/>
            </p:nvSpPr>
            <p:spPr>
              <a:xfrm>
                <a:off x="485640" y="2362320"/>
                <a:ext cx="352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5"/>
              <p:cNvSpPr txBox="1"/>
              <p:nvPr/>
            </p:nvSpPr>
            <p:spPr>
              <a:xfrm>
                <a:off x="3809880" y="2438280"/>
                <a:ext cx="167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Rectangle 13"/>
          <p:cNvSpPr/>
          <p:nvPr/>
        </p:nvSpPr>
        <p:spPr>
          <a:xfrm>
            <a:off x="475920" y="28195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7"/>
              <p:cNvSpPr txBox="1"/>
              <p:nvPr/>
            </p:nvSpPr>
            <p:spPr>
              <a:xfrm>
                <a:off x="380880" y="3352680"/>
                <a:ext cx="3812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Rectangle 16"/>
          <p:cNvSpPr/>
          <p:nvPr/>
        </p:nvSpPr>
        <p:spPr>
          <a:xfrm>
            <a:off x="762120" y="3200400"/>
            <a:ext cx="838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contracte obtinute in competitii nationale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;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262699"/>
                </a:solidFill>
                <a:latin typeface="Arial"/>
              </a:rPr>
              <a:t>In anul 2009 nu a fost lansata competitie de propuneri de proiecte; se trec contractele de cercetare derulate (continuarile) in cursul anului 2009 cu valoarea aferenta ce-I revine universitati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9"/>
              <p:cNvSpPr txBox="1"/>
              <p:nvPr/>
            </p:nvSpPr>
            <p:spPr>
              <a:xfrm>
                <a:off x="457200" y="3886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Rectangle 19"/>
          <p:cNvSpPr/>
          <p:nvPr/>
        </p:nvSpPr>
        <p:spPr>
          <a:xfrm>
            <a:off x="762120" y="3886200"/>
            <a:ext cx="876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 revine universitatii din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contracte obtinute in competitii internationa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457200" y="426708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914400" y="419112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 revine universitatii din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contracte de cercetare/consultanta/servicii tehnice si tehnologice incheiate direct cu companii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din tara si strainatat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5"/>
              <p:cNvSpPr txBox="1"/>
              <p:nvPr/>
            </p:nvSpPr>
            <p:spPr>
              <a:xfrm>
                <a:off x="457200" y="4724280"/>
                <a:ext cx="3430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27"/>
          <p:cNvSpPr/>
          <p:nvPr/>
        </p:nvSpPr>
        <p:spPr>
          <a:xfrm>
            <a:off x="685800" y="47242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67"/>
              <p:cNvSpPr txBox="1"/>
              <p:nvPr/>
            </p:nvSpPr>
            <p:spPr>
              <a:xfrm>
                <a:off x="457200" y="50292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Rectangle 30"/>
          <p:cNvSpPr/>
          <p:nvPr/>
        </p:nvSpPr>
        <p:spPr>
          <a:xfrm>
            <a:off x="762120" y="502920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152280" y="6247800"/>
            <a:ext cx="9601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  <a:ea typeface="MS Mincho"/>
              </a:rPr>
              <a:t>Observatie: Fondurile atrase de catre o universitate au aceeasi valoare reala, indiferent de sursa de provenienta. Toate valorile se exprima in lei, utilizand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MS Mincho"/>
              </a:rPr>
              <a:t> 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  <a:ea typeface="MS Mincho"/>
              </a:rPr>
              <a:t>rata de schimb la data incheierii contractului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70"/>
          <p:cNvSpPr/>
          <p:nvPr/>
        </p:nvSpPr>
        <p:spPr>
          <a:xfrm>
            <a:off x="1828800" y="53362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Contracte de cercetare stiintifica si creatie artis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28600" y="1219320"/>
          <a:ext cx="9372600" cy="6730920"/>
        </p:xfrm>
        <a:graphic>
          <a:graphicData uri="http://schemas.openxmlformats.org/drawingml/2006/table">
            <a:tbl>
              <a:tblPr/>
              <a:tblGrid>
                <a:gridCol w="9372600"/>
              </a:tblGrid>
              <a:tr h="19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fr-FR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2. Capacitatea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de a pregati resursa umana inalt calificata pentru activitatea de cercetare stiintific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2.1 Gradul de implicare in pregatirea resursei umane inalt calificate, pentru activitatea de cercetare stiintifica 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(raportul dintre numarul total de conducatori de doctorat din IOSUD si numarul total de profesori, titulari si consultanti, de la nivelul universitatii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Line 108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09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9" name="Picture 109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0"/>
              <p:cNvSpPr txBox="1"/>
              <p:nvPr/>
            </p:nvSpPr>
            <p:spPr>
              <a:xfrm>
                <a:off x="3352680" y="2743200"/>
                <a:ext cx="1752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oc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23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457200" y="29718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5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4"/>
              <p:cNvSpPr txBox="1"/>
              <p:nvPr/>
            </p:nvSpPr>
            <p:spPr>
              <a:xfrm>
                <a:off x="304920" y="3657600"/>
                <a:ext cx="685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oc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Rectangle 17"/>
          <p:cNvSpPr/>
          <p:nvPr/>
        </p:nvSpPr>
        <p:spPr>
          <a:xfrm>
            <a:off x="307800" y="32767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762120" y="3657600"/>
            <a:ext cx="63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conducatori de doctorat  din IOSUD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6"/>
              <p:cNvSpPr txBox="1"/>
              <p:nvPr/>
            </p:nvSpPr>
            <p:spPr>
              <a:xfrm>
                <a:off x="380880" y="3962520"/>
                <a:ext cx="3812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Rectangle 22"/>
          <p:cNvSpPr/>
          <p:nvPr/>
        </p:nvSpPr>
        <p:spPr>
          <a:xfrm>
            <a:off x="838080" y="396252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profesori (titulari si consultanti) din universitat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228600" y="4342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2.2 Eficienta in pregatirea de  resursa umana inalt calificata pentru activitatea de cercetare stiintific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8"/>
              <p:cNvSpPr txBox="1"/>
              <p:nvPr/>
            </p:nvSpPr>
            <p:spPr>
              <a:xfrm>
                <a:off x="380880" y="5105520"/>
                <a:ext cx="3049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Rectangle 30"/>
          <p:cNvSpPr/>
          <p:nvPr/>
        </p:nvSpPr>
        <p:spPr>
          <a:xfrm>
            <a:off x="228600" y="4573800"/>
            <a:ext cx="937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(raportul dintre numarul total de teze finalizate si sustinute public si numarul total de doctoranzi inscrisi la nivelul universitati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1"/>
              <p:cNvSpPr txBox="1"/>
              <p:nvPr/>
            </p:nvSpPr>
            <p:spPr>
              <a:xfrm>
                <a:off x="3419640" y="4952880"/>
                <a:ext cx="145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z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ctoranz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Rectangle 28"/>
          <p:cNvSpPr/>
          <p:nvPr/>
        </p:nvSpPr>
        <p:spPr>
          <a:xfrm>
            <a:off x="4803840" y="5105520"/>
            <a:ext cx="46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pentru universitatile care nu au IOSUD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valoarea 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33"/>
              <p:cNvSpPr txBox="1"/>
              <p:nvPr/>
            </p:nvSpPr>
            <p:spPr>
              <a:xfrm>
                <a:off x="152280" y="5867280"/>
                <a:ext cx="1067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z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Rectangle 31"/>
          <p:cNvSpPr/>
          <p:nvPr/>
        </p:nvSpPr>
        <p:spPr>
          <a:xfrm>
            <a:off x="171000" y="54864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5"/>
              <p:cNvSpPr txBox="1"/>
              <p:nvPr/>
            </p:nvSpPr>
            <p:spPr>
              <a:xfrm>
                <a:off x="228600" y="6172200"/>
                <a:ext cx="1066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octoranz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" name="Rectangle 34"/>
          <p:cNvSpPr/>
          <p:nvPr/>
        </p:nvSpPr>
        <p:spPr>
          <a:xfrm>
            <a:off x="838080" y="5791320"/>
            <a:ext cx="63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teze finalizate si sustinute public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990720" y="61722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doctoranzi inscrisi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8775720" y="5105520"/>
                <a:ext cx="2919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04920" y="1219320"/>
            <a:ext cx="92199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. Relevanta si vizibilitatea rezultatelor activitatilor de cercetare stiintific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o-RO" sz="16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30000">
                <a:solidFill>
                  <a:srgbClr val="0000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152280" y="1543320"/>
            <a:ext cx="9525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3.1 a) </a:t>
            </a: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MS Mincho"/>
              </a:rPr>
              <a:t>Articole, proceedings paper, review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publicate in reviste cotate ISI; b)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Lucrari stiintifice publicate in reviste straine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din fluxul principal de publicatii, indexate BDI; c)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Lucrari stiintifice publicate in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volumele conferintelor internationale cotate ISI si/sau cele organizate de societati profesionale international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                              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(raportul dintre numarul ponderat de articole publicate pe plan international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9"/>
              <p:cNvSpPr txBox="1"/>
              <p:nvPr/>
            </p:nvSpPr>
            <p:spPr>
              <a:xfrm>
                <a:off x="533520" y="2743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2"/>
              <p:cNvSpPr txBox="1"/>
              <p:nvPr/>
            </p:nvSpPr>
            <p:spPr>
              <a:xfrm>
                <a:off x="2743200" y="2819520"/>
                <a:ext cx="2476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4"/>
              <p:cNvSpPr txBox="1"/>
              <p:nvPr/>
            </p:nvSpPr>
            <p:spPr>
              <a:xfrm>
                <a:off x="868320" y="3352680"/>
                <a:ext cx="1511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vist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6"/>
              <p:cNvSpPr txBox="1"/>
              <p:nvPr/>
            </p:nvSpPr>
            <p:spPr>
              <a:xfrm>
                <a:off x="7101000" y="3352680"/>
                <a:ext cx="1974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gregat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8"/>
              <p:cNvSpPr txBox="1"/>
              <p:nvPr/>
            </p:nvSpPr>
            <p:spPr>
              <a:xfrm>
                <a:off x="3048120" y="3381480"/>
                <a:ext cx="1266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Rectangle 3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0"/>
              <p:cNvSpPr txBox="1"/>
              <p:nvPr/>
            </p:nvSpPr>
            <p:spPr>
              <a:xfrm>
                <a:off x="4952880" y="3381480"/>
                <a:ext cx="1447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ucrar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2"/>
              <p:cNvSpPr txBox="1"/>
              <p:nvPr/>
            </p:nvSpPr>
            <p:spPr>
              <a:xfrm>
                <a:off x="304920" y="4419720"/>
                <a:ext cx="342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6" name="Rectangle 35"/>
          <p:cNvSpPr/>
          <p:nvPr/>
        </p:nvSpPr>
        <p:spPr>
          <a:xfrm>
            <a:off x="457200" y="441684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reviste internationale, cotate ISI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4"/>
              <p:cNvSpPr txBox="1"/>
              <p:nvPr/>
            </p:nvSpPr>
            <p:spPr>
              <a:xfrm>
                <a:off x="5991120" y="4419720"/>
                <a:ext cx="561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36"/>
              <p:cNvSpPr txBox="1"/>
              <p:nvPr/>
            </p:nvSpPr>
            <p:spPr>
              <a:xfrm>
                <a:off x="304920" y="4724280"/>
                <a:ext cx="304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Rectangle 39"/>
          <p:cNvSpPr/>
          <p:nvPr/>
        </p:nvSpPr>
        <p:spPr>
          <a:xfrm>
            <a:off x="457200" y="472320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reviste internationale, necotate ISI, dar indexate BDI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8"/>
              <p:cNvSpPr txBox="1"/>
              <p:nvPr/>
            </p:nvSpPr>
            <p:spPr>
              <a:xfrm>
                <a:off x="7543800" y="4734000"/>
                <a:ext cx="6382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2"/>
              <p:cNvSpPr txBox="1"/>
              <p:nvPr/>
            </p:nvSpPr>
            <p:spPr>
              <a:xfrm>
                <a:off x="304920" y="51055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Rectangle 45"/>
          <p:cNvSpPr/>
          <p:nvPr/>
        </p:nvSpPr>
        <p:spPr>
          <a:xfrm>
            <a:off x="533520" y="5040360"/>
            <a:ext cx="921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volumele conferintelor internationale, cotate ISI, si cele organizate de societat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profesionale inter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4"/>
              <p:cNvSpPr txBox="1"/>
              <p:nvPr/>
            </p:nvSpPr>
            <p:spPr>
              <a:xfrm>
                <a:off x="2971800" y="5334120"/>
                <a:ext cx="561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6"/>
              <p:cNvSpPr txBox="1"/>
              <p:nvPr/>
            </p:nvSpPr>
            <p:spPr>
              <a:xfrm>
                <a:off x="266760" y="5638680"/>
                <a:ext cx="26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Rectangle 47"/>
          <p:cNvSpPr/>
          <p:nvPr/>
        </p:nvSpPr>
        <p:spPr>
          <a:xfrm>
            <a:off x="457200" y="56358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8"/>
              <p:cNvSpPr txBox="1"/>
              <p:nvPr/>
            </p:nvSpPr>
            <p:spPr>
              <a:xfrm>
                <a:off x="304920" y="5943600"/>
                <a:ext cx="218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Rectangle 50"/>
          <p:cNvSpPr/>
          <p:nvPr/>
        </p:nvSpPr>
        <p:spPr>
          <a:xfrm>
            <a:off x="457200" y="594036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50"/>
              <p:cNvSpPr txBox="1"/>
              <p:nvPr/>
            </p:nvSpPr>
            <p:spPr>
              <a:xfrm>
                <a:off x="295200" y="6248520"/>
                <a:ext cx="238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53"/>
          <p:cNvSpPr/>
          <p:nvPr/>
        </p:nvSpPr>
        <p:spPr>
          <a:xfrm>
            <a:off x="464760" y="62452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revista in care este publicat articolul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Rectangle 65"/>
          <p:cNvSpPr/>
          <p:nvPr/>
        </p:nvSpPr>
        <p:spPr>
          <a:xfrm>
            <a:off x="383760" y="41148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7"/>
              <p:cNvSpPr txBox="1"/>
              <p:nvPr/>
            </p:nvSpPr>
            <p:spPr>
              <a:xfrm>
                <a:off x="419040" y="16765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9" name="Rectangle 56"/>
          <p:cNvSpPr/>
          <p:nvPr/>
        </p:nvSpPr>
        <p:spPr>
          <a:xfrm>
            <a:off x="457200" y="167652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articole publicate in revista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,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anul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8"/>
              <p:cNvSpPr txBox="1"/>
              <p:nvPr/>
            </p:nvSpPr>
            <p:spPr>
              <a:xfrm>
                <a:off x="380880" y="20574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2" name="Rectangle 57"/>
          <p:cNvSpPr/>
          <p:nvPr/>
        </p:nvSpPr>
        <p:spPr>
          <a:xfrm>
            <a:off x="457200" y="20577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coeficient de impact calculat pentru revista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I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, pentru revistele din domeniul Arts and Humanities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0"/>
              <p:cNvSpPr txBox="1"/>
              <p:nvPr/>
            </p:nvSpPr>
            <p:spPr>
              <a:xfrm>
                <a:off x="304920" y="23623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5" name="Rectangle 64"/>
          <p:cNvSpPr/>
          <p:nvPr/>
        </p:nvSpPr>
        <p:spPr>
          <a:xfrm>
            <a:off x="610920" y="236232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factor de impact al revistei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200160" y="2684520"/>
                <a:ext cx="7426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greg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Rectangle 54"/>
          <p:cNvSpPr/>
          <p:nvPr/>
        </p:nvSpPr>
        <p:spPr>
          <a:xfrm>
            <a:off x="380880" y="266688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factor de impact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agregat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domeni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revistei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5"/>
              <p:cNvSpPr txBox="1"/>
              <p:nvPr/>
            </p:nvSpPr>
            <p:spPr>
              <a:xfrm>
                <a:off x="228600" y="3429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" name="Rectangle 60"/>
          <p:cNvSpPr/>
          <p:nvPr/>
        </p:nvSpPr>
        <p:spPr>
          <a:xfrm>
            <a:off x="609480" y="3429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articole publicate in reviste internationale necotate ISI, dar indexate BDI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8"/>
              <p:cNvSpPr txBox="1"/>
              <p:nvPr/>
            </p:nvSpPr>
            <p:spPr>
              <a:xfrm>
                <a:off x="152280" y="37339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crar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Rectangle 63"/>
          <p:cNvSpPr/>
          <p:nvPr/>
        </p:nvSpPr>
        <p:spPr>
          <a:xfrm>
            <a:off x="685800" y="3733920"/>
            <a:ext cx="922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= numarul total de lucari (articole) publicate in volumele conferintelor internationale cotate ISI si cele organizat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de societati profesionale internationale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Rectangle 30"/>
          <p:cNvSpPr/>
          <p:nvPr/>
        </p:nvSpPr>
        <p:spPr>
          <a:xfrm>
            <a:off x="1447920" y="4783320"/>
            <a:ext cx="64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articipari la manifestari specifice internationale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2"/>
              <p:cNvSpPr txBox="1"/>
              <p:nvPr/>
            </p:nvSpPr>
            <p:spPr>
              <a:xfrm>
                <a:off x="8458200" y="2057400"/>
                <a:ext cx="608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54"/>
          <p:cNvSpPr/>
          <p:nvPr/>
        </p:nvSpPr>
        <p:spPr>
          <a:xfrm>
            <a:off x="457200" y="3048120"/>
            <a:ext cx="9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onstanta avand valoarea de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0.333, reprezentand echivalenta intre 1 articol ISI cu factorul de impact 0 si un BDI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1"/>
              <p:cNvSpPr txBox="1"/>
              <p:nvPr/>
            </p:nvSpPr>
            <p:spPr>
              <a:xfrm>
                <a:off x="304920" y="3124080"/>
                <a:ext cx="18720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181480" y="2971800"/>
            <a:ext cx="437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28600" y="1143000"/>
            <a:ext cx="944892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3.2 Articole publicate in reviste recunoscute la nivel national, de catre CNCSIS - categoriile B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si  B</a:t>
            </a:r>
            <a:r>
              <a:rPr b="1" lang="ro-RO" sz="14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 +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228600" y="1828800"/>
            <a:ext cx="93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(raportul dintre numarul ponderat de articole publicate pe plan national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2"/>
              <p:cNvSpPr txBox="1"/>
              <p:nvPr/>
            </p:nvSpPr>
            <p:spPr>
              <a:xfrm>
                <a:off x="3554280" y="2278080"/>
                <a:ext cx="2340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Rectangle 15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4"/>
              <p:cNvSpPr txBox="1"/>
              <p:nvPr/>
            </p:nvSpPr>
            <p:spPr>
              <a:xfrm>
                <a:off x="457200" y="24382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187200" y="3733920"/>
                <a:ext cx="615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Rectangle 18"/>
          <p:cNvSpPr/>
          <p:nvPr/>
        </p:nvSpPr>
        <p:spPr>
          <a:xfrm>
            <a:off x="307800" y="32767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533520" y="373392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articole publicate in reviste recunoscute de CNCSIS – categorii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ro-RO" sz="1400" spc="-1" strike="noStrike" baseline="-25000">
                <a:solidFill>
                  <a:srgbClr val="000099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0"/>
              <p:cNvSpPr txBox="1"/>
              <p:nvPr/>
            </p:nvSpPr>
            <p:spPr>
              <a:xfrm>
                <a:off x="304920" y="4114800"/>
                <a:ext cx="3808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Rectangle 25"/>
          <p:cNvSpPr/>
          <p:nvPr/>
        </p:nvSpPr>
        <p:spPr>
          <a:xfrm>
            <a:off x="685800" y="41148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2"/>
              <p:cNvSpPr txBox="1"/>
              <p:nvPr/>
            </p:nvSpPr>
            <p:spPr>
              <a:xfrm>
                <a:off x="304920" y="4419720"/>
                <a:ext cx="371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Rectangle 28"/>
          <p:cNvSpPr/>
          <p:nvPr/>
        </p:nvSpPr>
        <p:spPr>
          <a:xfrm>
            <a:off x="685800" y="441972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4"/>
              <p:cNvSpPr txBox="1"/>
              <p:nvPr/>
            </p:nvSpPr>
            <p:spPr>
              <a:xfrm>
                <a:off x="304920" y="4800600"/>
                <a:ext cx="26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5" name="Rectangle 27"/>
          <p:cNvSpPr/>
          <p:nvPr/>
        </p:nvSpPr>
        <p:spPr>
          <a:xfrm>
            <a:off x="457200" y="4705920"/>
            <a:ext cx="4724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 (categoriile B</a:t>
            </a:r>
            <a:r>
              <a:rPr b="0" lang="ro-RO" sz="1400" spc="-1" strike="noStrike" baseline="-30000">
                <a:solidFill>
                  <a:srgbClr val="000099"/>
                </a:solidFill>
                <a:latin typeface="Arial"/>
                <a:ea typeface="MS Mincho"/>
              </a:rPr>
              <a:t>+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)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6"/>
              <p:cNvSpPr txBox="1"/>
              <p:nvPr/>
            </p:nvSpPr>
            <p:spPr>
              <a:xfrm>
                <a:off x="4876920" y="4800600"/>
                <a:ext cx="618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Rectangle 32"/>
          <p:cNvSpPr/>
          <p:nvPr/>
        </p:nvSpPr>
        <p:spPr>
          <a:xfrm>
            <a:off x="1905120" y="585000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articipari la manifestari specifice nationale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1"/>
              <p:cNvSpPr txBox="1"/>
              <p:nvPr/>
            </p:nvSpPr>
            <p:spPr>
              <a:xfrm>
                <a:off x="228600" y="5029200"/>
                <a:ext cx="5461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Rectangle 19"/>
          <p:cNvSpPr/>
          <p:nvPr/>
        </p:nvSpPr>
        <p:spPr>
          <a:xfrm>
            <a:off x="457200" y="502920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articole publicate in reviste recunoscute de CNCSIS – categoriile B</a:t>
            </a:r>
            <a:r>
              <a:rPr b="0" lang="ro-RO" sz="1400" spc="-1" strike="noStrike" baseline="-25000">
                <a:solidFill>
                  <a:srgbClr val="000099"/>
                </a:solidFill>
                <a:latin typeface="Arial"/>
              </a:rPr>
              <a:t>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3"/>
              <p:cNvSpPr txBox="1"/>
              <p:nvPr/>
            </p:nvSpPr>
            <p:spPr>
              <a:xfrm>
                <a:off x="228600" y="5334120"/>
                <a:ext cx="320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27"/>
          <p:cNvSpPr/>
          <p:nvPr/>
        </p:nvSpPr>
        <p:spPr>
          <a:xfrm>
            <a:off x="380880" y="533448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 (categoriile B)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,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34"/>
              <p:cNvSpPr txBox="1"/>
              <p:nvPr/>
            </p:nvSpPr>
            <p:spPr>
              <a:xfrm>
                <a:off x="4800600" y="5410080"/>
                <a:ext cx="619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04920" y="1371600"/>
            <a:ext cx="9219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3.3 Carti publicate in edituri nationale, recunoscute CNCSIS, si edituri internationale de prestigiu (format hartie si/sau electronic)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         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5"/>
              <p:cNvSpPr txBox="1"/>
              <p:nvPr/>
            </p:nvSpPr>
            <p:spPr>
              <a:xfrm>
                <a:off x="2514600" y="21337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7"/>
              <p:cNvSpPr txBox="1"/>
              <p:nvPr/>
            </p:nvSpPr>
            <p:spPr>
              <a:xfrm>
                <a:off x="304920" y="2895480"/>
                <a:ext cx="533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Rectangle 16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4"/>
              <p:cNvSpPr txBox="1"/>
              <p:nvPr/>
            </p:nvSpPr>
            <p:spPr>
              <a:xfrm>
                <a:off x="685800" y="2286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7" name="Rectangle 16"/>
          <p:cNvSpPr/>
          <p:nvPr/>
        </p:nvSpPr>
        <p:spPr>
          <a:xfrm>
            <a:off x="800280" y="2968560"/>
            <a:ext cx="69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pagini publicate in lucrari la nivel international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304920" y="3200400"/>
                <a:ext cx="504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" name="Rectangle 19"/>
          <p:cNvSpPr/>
          <p:nvPr/>
        </p:nvSpPr>
        <p:spPr>
          <a:xfrm>
            <a:off x="609480" y="3273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pagini publicate in lucrari la nivel national, 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9"/>
              <p:cNvSpPr txBox="1"/>
              <p:nvPr/>
            </p:nvSpPr>
            <p:spPr>
              <a:xfrm>
                <a:off x="380880" y="3505320"/>
                <a:ext cx="381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Rectangle 22"/>
          <p:cNvSpPr/>
          <p:nvPr/>
        </p:nvSpPr>
        <p:spPr>
          <a:xfrm>
            <a:off x="762120" y="35812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de pagini de referinta pentru lucrari la nivel international (50) 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1"/>
              <p:cNvSpPr txBox="1"/>
              <p:nvPr/>
            </p:nvSpPr>
            <p:spPr>
              <a:xfrm>
                <a:off x="304920" y="3886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6" name="Rectangle 25"/>
          <p:cNvSpPr/>
          <p:nvPr/>
        </p:nvSpPr>
        <p:spPr>
          <a:xfrm>
            <a:off x="762120" y="388620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de pagini de referinta pentru lucrari la nivel national (100) , 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23"/>
              <p:cNvSpPr txBox="1"/>
              <p:nvPr/>
            </p:nvSpPr>
            <p:spPr>
              <a:xfrm>
                <a:off x="304920" y="4191120"/>
                <a:ext cx="342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9" name="Rectangle 28"/>
          <p:cNvSpPr/>
          <p:nvPr/>
        </p:nvSpPr>
        <p:spPr>
          <a:xfrm>
            <a:off x="762120" y="4187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5"/>
              <p:cNvSpPr txBox="1"/>
              <p:nvPr/>
            </p:nvSpPr>
            <p:spPr>
              <a:xfrm>
                <a:off x="304920" y="4495680"/>
                <a:ext cx="295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2" name="Rectangle 31"/>
          <p:cNvSpPr/>
          <p:nvPr/>
        </p:nvSpPr>
        <p:spPr>
          <a:xfrm>
            <a:off x="685800" y="44928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27"/>
              <p:cNvSpPr txBox="1"/>
              <p:nvPr/>
            </p:nvSpPr>
            <p:spPr>
              <a:xfrm>
                <a:off x="304920" y="4809960"/>
                <a:ext cx="25704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Rectangle 30"/>
          <p:cNvSpPr/>
          <p:nvPr/>
        </p:nvSpPr>
        <p:spPr>
          <a:xfrm>
            <a:off x="685800" y="479772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9"/>
              <p:cNvSpPr txBox="1"/>
              <p:nvPr/>
            </p:nvSpPr>
            <p:spPr>
              <a:xfrm>
                <a:off x="3581280" y="4886280"/>
                <a:ext cx="5335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1"/>
              <p:cNvSpPr txBox="1"/>
              <p:nvPr/>
            </p:nvSpPr>
            <p:spPr>
              <a:xfrm>
                <a:off x="304920" y="5114880"/>
                <a:ext cx="3045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34"/>
          <p:cNvSpPr/>
          <p:nvPr/>
        </p:nvSpPr>
        <p:spPr>
          <a:xfrm>
            <a:off x="685800" y="5102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inter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3"/>
              <p:cNvSpPr txBox="1"/>
              <p:nvPr/>
            </p:nvSpPr>
            <p:spPr>
              <a:xfrm>
                <a:off x="3962520" y="5191200"/>
                <a:ext cx="5713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35"/>
          <p:cNvSpPr/>
          <p:nvPr/>
        </p:nvSpPr>
        <p:spPr>
          <a:xfrm>
            <a:off x="380880" y="5415840"/>
            <a:ext cx="9296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Lucrari monografice si lucrari de sinteza publicate in edituri nationale recunoscute, expozitii retrospective, f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ilme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 si spectacole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 de autor, concerte de autor, discuri de autor sau interpret (LP, CD) editate de firme de prestigiu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 din tara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, proiecte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si opere monumentale 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de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i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nteres national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460080" y="25876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5:34:44Z</dcterms:created>
  <dc:creator>laura</dc:creator>
  <dc:description/>
  <dc:language>en-US</dc:language>
  <cp:lastModifiedBy>marlena</cp:lastModifiedBy>
  <dcterms:modified xsi:type="dcterms:W3CDTF">2010-02-01T15:23:08Z</dcterms:modified>
  <cp:revision>592</cp:revision>
  <dc:subject/>
  <dc:title>Generale</dc:title>
</cp:coreProperties>
</file>